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DD34-D85F-41A7-B815-D9A4F309F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AD0-C9C9-4D50-996A-9F9463342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0B3C-5227-4115-86AA-336F2CDD74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0C1CC-AE06-4671-A332-88ABD7DB8E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80083-7D7B-4C4C-9509-D24FC4B96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59D5C-B7B3-4AFE-89BE-286682937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F6D41-0A01-4E95-B2C7-547F458C6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55F64-518E-427C-AAC4-F84236B25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43443-5783-4AAF-AE6A-0A70CB695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6B4F3-A870-43B9-976C-44F541998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94AC8-F35C-45AE-B66A-214D8E93A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71589-F1DF-4F73-990E-CD7489AEE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96D9-846C-45BE-BDA6-4901F9D2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41DC6-32E8-4AA3-8B89-2F4FC950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705D-6003-43F5-8D40-6E5BDF67E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A3316-9B51-43B1-B13B-387C4CCEE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0D498-CDC3-4517-8467-66E7EC343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911F-CE7A-4C8E-9B92-56E2FDD6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A4371-5A4B-4979-8A87-11D1ECB30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A6CB-B0B6-4133-B880-55FF2950E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CCDCC-A571-44A4-8BF1-CA4E3D78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34AA-CFEB-4DAF-A5BA-BCAB6425C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CB5D-A724-4DD2-9940-08C93CD6E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34B67-184E-435B-9C45-E107E874D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5C79B-B147-4084-A1CD-B31F2F5AFFE5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8BA20-75DA-4CE1-9115-CC74BF24568A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Monitoraggio e valutazione dei servizi formativi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l modello CIPP per la valutazione adottato dall’INVALS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2984400" y="5661000"/>
            <a:ext cx="395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erugia, 9 – 11 settembre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ontes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Input o risors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ces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Prodott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Contesto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E’ il contesto economico e socio-culturale nel quale la scuola si trova ad operare e con il quale si deve confrontare per adeguare la sua offerta formativa alla domanda – espressa o meno – del territorio, anche nella possibilità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Input o risorse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ono le norme, le leggi, le risorse umane, strutturali, tecnologiche e finanziarie di cui la scuola deve tener conto nella prestazione del servizi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l modello CIPP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cess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Comprende tutte le attività realizzate dalla scuola in ambito organizzativo, didattico, forma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Prodotto 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ell’ambito della valutazione è l’output fisico della scuola. Si può distinguere tra indicatori di output in senso stretto (es. numero di licenziati sul numero degli iscritti all’ultimo anno) e indicatori di profitto e di risultato (giudizi in uscita rispetto ai giudizi in entrata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800" spc="-1" strike="noStrike">
                <a:solidFill>
                  <a:srgbClr val="000000"/>
                </a:solidFill>
                <a:latin typeface="Verdana"/>
              </a:rPr>
              <a:t>Output ed outcom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Verdana"/>
              </a:rPr>
              <a:t>Spesso l’output viene confuso con la misurazione degli apprendimenti, mentre questa viene indicata come outcome del serviz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14:00Z</dcterms:created>
  <dc:creator>Alessandro Chiozza</dc:creator>
  <dc:description/>
  <dc:language>en-US</dc:language>
  <cp:lastModifiedBy>Administrator</cp:lastModifiedBy>
  <dcterms:modified xsi:type="dcterms:W3CDTF">2008-09-09T13:58:02Z</dcterms:modified>
  <cp:revision>4</cp:revision>
  <dc:subject/>
  <dc:title>Monitoraggio e valutazione dei servizi formativi</dc:title>
</cp:coreProperties>
</file>